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1159-1941-4037-8538-A71D54B53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E5AB-32A0-4CBE-B656-49DA9EA3D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B96D72-757F-414E-920C-0D07C165E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B9636D-8C0D-4E6C-972F-08BC59DFA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27D0A-8A14-4AD5-9FAA-948A2CE34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FC074C-B5F7-4969-8079-DA42CF7A4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7C0CC-5FC8-44AD-9447-9806915F7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2A0849-BE05-46FD-9450-A22BCB958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3E80B0-A2E8-4AA0-9500-B48CA96F3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670C7-02BA-4398-AED3-F8C9C14FF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525B0-39CD-4F9C-85D7-71B537FA2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5FE011-F1C9-4229-823F-A5EDF6485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C0B3-4572-4BEA-925B-C559A6E93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076C6B-773B-4880-B0E0-25069A4F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B23B8F-2F1C-4ED5-9336-824B5F8C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A4A85-9259-4C62-87BE-A5016851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A399C9-3211-4C04-AEB0-D1AB88C5F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BED643-862B-4B0C-BD3E-2FBB1FF6E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270983-BF96-494A-9B72-D9153315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29B322-436B-424B-B2AE-D5E6E4AF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409731-CBFE-4477-AEAA-F7D56277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A6F68-197B-4697-AD7E-3BCEE4FFB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93D33-0D0F-4A2A-A035-AE975F6AB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A851-DC5A-4FE6-B68D-D83865620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A28C72-23DC-4A7C-9DC1-5EE9DF4BE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59CB0B-73D2-4442-A01D-0D83D7677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E57630-26E9-4261-8647-143942F45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06C5B8-C49B-4471-8D21-D8ABBF096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5ADC06-E80D-4CF9-8348-09AD6A497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7D4A84-78AD-4B5D-8280-105DBCFE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972DB1-B915-4E62-BB81-A18E4159F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2A9BE8-0C0C-42E6-B671-A2E81B646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35C5BF-28AB-47A8-A8EE-833DC92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E28E4A-A5E1-44C7-8491-26721E880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27AE1-8DC5-46E3-984F-428BB68F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AC127A-783C-4361-A79E-BAB959F90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0B8B8C-A16B-4C14-8FDF-9E19CD19B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878D3-A5CC-4CE2-813E-82DCB0F03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AE0F6-6151-49E1-A62D-8F33693CF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5C6859F-3601-495E-B9FC-D78FBEE5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39C165-C53B-4F87-8C95-CD6216F08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B4923D-2481-46DF-8642-CDB22C141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04E2C8E-2D01-47F6-B521-B30BCEA3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2C2B3F-5E3D-4BF0-B00C-94D6DFA79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35185D-AD0E-46A2-9EEA-B825FB002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B8AF8-DF4A-4ED9-B5E0-E4C8ADA99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37176E-089F-40B2-B9D6-A85035C79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399471-44A6-415F-B3B9-238CB26E2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009BF0-7B99-4005-9F44-204CC04A9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9A63B3-F169-41D9-A5C9-CFE09EB2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CF59ECB-81BA-41DE-A82A-6779B192FF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2884-DF1A-4798-A363-E68F1158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6560C-1C4F-4342-80AD-47B1FCE4F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2C676-E4AD-4E03-A633-36FEEE4AB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2C7D8-14AC-4103-9EFA-99E28442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9E77E-91D8-4B34-A35D-EAA19EB9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C7CC-1CA6-47D8-8110-5241DFA7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98DF7-9640-4AB7-BE73-99CEB744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DD32-63BD-4F6D-9093-929BA262B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BC3C-9BF0-4E1A-A16D-60915987B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41361-C059-4F0D-836F-AE50D2997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C952D-2A0B-4ADB-949D-9A8283FBA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3223B-2A5A-4A78-8C15-836CD242F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99A4B-E919-4CF2-B121-0753B61B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4AE1C5-53F2-458D-9FAF-B679D0D0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CA255-7115-4490-B670-E747DD67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32A34-DC9A-496A-A07F-E5AE970AA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D974-047C-4AEF-A915-0C7EB40B5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B84F9F-81DE-4408-8885-118447AD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60C347-2ADE-420B-8ED1-2E9198AF3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94523-ADDF-4B12-AB76-AF31AC8A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0F7679-8763-4C66-8614-E5A2FA629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17E28-D53F-4D97-9F0B-EF6A23A8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ABC77-C5AF-4FFF-B96D-DFA00D193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554B1-BB58-4CDB-A34A-CAA909EAD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1AD1C7-CF62-4E84-A314-F85761A65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777E4B-004D-4D31-A49F-734642436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8B87C-8FB2-49CD-9D74-3DBC234DA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3AC4A-5973-4B6C-9974-B508BCDC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49BB1C-68AB-41C4-85A6-F6511A20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4AB8A9-BFFE-49FC-8B28-56B7B356D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F503E-A4CC-4137-BF6F-2EDF81D1A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7D77C8-CC71-45F8-B224-C40D7D4E7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1BFB-D616-45A4-96E7-C69C1460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A45B2-68CA-4992-AD9D-E8BF8206D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513617-F3DD-4867-8AC4-7D4E84833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9B9150-315C-4675-A007-9F128760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FD6B76-1844-49F8-BC92-622D10E72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219EF4-6F4A-4BF3-BAEF-74F1CC07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37A5-FE3C-4603-955E-729C9C10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6C484-8249-4449-80BF-521357AE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3851CF-5BBA-4EA7-A18C-82ABCDBC6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4175F0-3B99-4D0E-8E4D-1093D1F32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DDC918-349B-42B5-B6BB-E38326D2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78FC3-E039-455A-AEA4-2115F90CA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7F48A9-C386-4F97-A075-2718CC873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494090-BCA4-4EFC-874F-DD14A5E2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5A1FA-FFC6-4DED-A2E3-F086577B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5ED811-4DF1-4998-81C5-A06642C61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DEE41-33BF-44A9-9373-3C441A0D6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58A9-AB12-4F73-A73D-7B3B8B1C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8F7655-FE5F-450F-B0A0-475DBAC9F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B7751-8057-4AE7-A7D2-F7B6E527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106F2D-674D-4622-B880-07BD6A3D7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751EE7-5049-4E1E-BB1D-AFD63080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7079F6-EA92-4640-B35C-A8FE321EC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F0C50-707A-490C-8437-4EE70E60F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B389BB-8692-4738-BE1F-CAD87E71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974B9-89EE-4972-9D4A-B31FA0E4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D8953F-43B3-4084-B81D-C2091CAC2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CFFF0D-6D46-4E74-9B70-F324E079F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F206-6A30-4914-96C2-71B9D69EC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BB9C5-4FD7-48A4-9C3C-617052AA6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7E8B1E-EFC3-48C1-BDF5-45B84B566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091DC-649F-45AE-B1D1-6DB1315CA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5695CE-D24C-4A0E-B4AE-4192BFD27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B72D40-5E69-4420-A438-4A037DC70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5DD544-3F31-42C3-9EE0-F77638324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15C6B-7596-48A1-BA6B-7A54A9E19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72456-EAC0-4AF0-BD5A-F4FC75AA7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EBC5FF-06CE-46EE-80ED-FFF4D70E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1E5D3B-1C6E-4FD4-A383-A9E4F643D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2D43-5C2B-4BDE-A109-918A0301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1FB635-F7C6-4D9D-85CB-82E9B7E24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DEDC2A-2D40-4DA2-9508-D6F6B7E9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A9A06B-A0EC-40D6-B556-3D5B7F789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5F80B-4422-4B06-B0C6-E68BB51E5D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60E0-8580-45B1-BBC4-58BD67921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9A1D93-3B0F-4A0F-8A3E-5E34A1FC8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8FE562-EB16-4769-BCCC-372B709F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BE789E-4203-4342-B8A3-D92195E55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A101B2-543C-489D-AAB8-3C1A6FB8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A868B4-3575-4A6C-B917-043DD6F1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F8D78-6948-4564-BDD3-A962D76B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87A486-78FA-4703-B0E5-5441E9DC4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CECACA-A055-4940-8598-FA74E7601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1C76DD-5B01-4394-8781-6BABDF7E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446E9-115A-49F6-A58F-1F36BFA9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ACA732-11F3-41D0-87BB-F549950A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74E64-04E6-482E-9F66-DD688A06D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E5D273-06B6-4E5A-9F22-63DC877AF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B7EBF5-D815-4685-9091-6318E2321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FDB30B-3018-4007-8262-E912F0B64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E19908-93FE-47A2-999E-43FB8D342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3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Oval 4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3" name="Oval 5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4" name="Oval 6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AFDD1-9A1F-4F86-B797-BA0F02DEEA7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EA4AD-824B-4F47-89C8-EA3ABB7283A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515A-A9FF-4098-91B5-826EFE8BB0F7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BF6F6-504A-470F-96E1-8160C0CA230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DE49B-81A2-4818-9676-4EB1ABDA94D0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1AC8B-8CEC-495B-B4CC-5C4F9FAF84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84FC7-79FF-43D1-B95C-5CE2EB92254A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E2A63-BDAA-47A1-9019-188CB1C148E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49" name="Oval 3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0" name="Oval 4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1" name="Oval 5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2" name="Oval 6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3" name="Oval 7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  <p:sp>
          <p:nvSpPr>
            <p:cNvPr id="54" name="Oval 8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2400" spc="-1" strike="noStrike" u="sng">
                <a:solidFill>
                  <a:srgbClr val="000000"/>
                </a:solidFill>
                <a:uFillTx/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98FB-E4EC-472B-88A2-B1E2DB2B7B04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AD45C-1461-4EDE-9914-6DB034BCA969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414D0-CBB7-41B1-9661-CBECA88CF0D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BDFD-3E40-4FDD-9A74-BED8067F5E4F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58E3-3656-47E7-9181-CA69E5CBB57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CF24-CD41-4BAE-AEC7-F3E1B14685A0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B869-57D4-497A-B7D9-9CCA7958987E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152E3-6C30-442D-81EE-A13A80B7B3C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F9238-DDE4-4415-8F79-B8C74456235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FDCC7-A4B0-49C9-9B8A-0E60CAB8AFBA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FEEC-58D0-433B-935E-CAF7B06377D9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A0A3-9BFF-489D-BCFB-B2B8E3238EEB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CAA92-294D-489E-BC67-B8D6DC02F13C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B5662-6ED4-4FAB-8AA6-11C6123A3516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fcff"/>
            </a:gs>
            <a:gs pos="100000">
              <a:srgbClr val="f0f0ff"/>
            </a:gs>
          </a:gsLst>
          <a:lin ang="57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31B2-9EDF-438D-B89E-9D8BAE38DFB6}" type="datetime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26/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1DF9-296E-49A3-BCEE-42F56B8FA477}" type="slidenum">
              <a:rPr b="0" lang="zh-CN" sz="10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baike.baidu.com/view/587353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baike.baidu.com/image/32bb9c8b071d53fcfd1f101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1628280"/>
            <a:ext cx="7772400" cy="19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d9d8ec"/>
                </a:solidFill>
                <a:latin typeface="Arial"/>
              </a:rPr>
              <a:t>爬山虎的脚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原来爬山虎是有脚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456840" y="1599840"/>
            <a:ext cx="821844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长在茎上。茎上长叶柄的地方，反面伸出枝状的六七根细丝，每根细丝像蜗牛的触角。细丝跟新叶子一样，也是嫩红的。这就是爬山虎的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生长的地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样子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颜色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5" descr="d5f0aba0f77ff29c46106412"/>
          <p:cNvPicPr/>
          <p:nvPr/>
        </p:nvPicPr>
        <p:blipFill>
          <a:blip r:embed="rId1"/>
          <a:stretch/>
        </p:blipFill>
        <p:spPr>
          <a:xfrm>
            <a:off x="5364000" y="3500280"/>
            <a:ext cx="3529080" cy="335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原来爬山虎是有脚的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250920" y="1599840"/>
            <a:ext cx="8353440" cy="46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长在茎上。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茎上长叶柄的地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反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伸出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枝状的六七根细丝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每根细丝像蜗牛的触角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细丝跟新叶子一样，也是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嫩红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。这就是爬山虎的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填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生长的地方：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茎上长叶柄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样子：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枝状的六七根细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的颜色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嫩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Picture 7" descr="d5f0aba0f77ff29c46106412"/>
          <p:cNvPicPr/>
          <p:nvPr/>
        </p:nvPicPr>
        <p:blipFill>
          <a:blip r:embed="rId1"/>
          <a:stretch/>
        </p:blipFill>
        <p:spPr>
          <a:xfrm>
            <a:off x="7294680" y="2955960"/>
            <a:ext cx="1392120" cy="1492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这</a:t>
            </a:r>
            <a:r>
              <a:rPr b="1" lang="zh-CN" sz="3800" spc="-1" strike="noStrike">
                <a:solidFill>
                  <a:srgbClr val="0066ff"/>
                </a:solidFill>
                <a:latin typeface="Arial"/>
              </a:rPr>
              <a:t>就是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</a:rPr>
              <a:t>爬山虎的脚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5" descr="4886860_142642926307_2"/>
          <p:cNvPicPr/>
          <p:nvPr/>
        </p:nvPicPr>
        <p:blipFill>
          <a:blip r:embed="rId1"/>
          <a:srcRect l="0" t="0" r="883" b="5632"/>
          <a:stretch/>
        </p:blipFill>
        <p:spPr>
          <a:xfrm>
            <a:off x="457200" y="1600200"/>
            <a:ext cx="8064360" cy="432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8" descr="3414854417455389061"/>
          <p:cNvPicPr/>
          <p:nvPr/>
        </p:nvPicPr>
        <p:blipFill>
          <a:blip r:embed="rId1"/>
          <a:stretch/>
        </p:blipFill>
        <p:spPr>
          <a:xfrm>
            <a:off x="0" y="3429000"/>
            <a:ext cx="4427640" cy="3429000"/>
          </a:xfrm>
          <a:prstGeom prst="rect">
            <a:avLst/>
          </a:prstGeom>
          <a:ln w="0">
            <a:noFill/>
          </a:ln>
        </p:spPr>
      </p:pic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348000" y="274320"/>
            <a:ext cx="57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4066920" y="1412640"/>
            <a:ext cx="482580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爬山虎就是这样一脚一脚地往上爬。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5" name="Picture 6" descr="1047c1bbf56b8bf6ff64f45d41ae62e4"/>
          <p:cNvPicPr/>
          <p:nvPr/>
        </p:nvPicPr>
        <p:blipFill>
          <a:blip r:embed="rId2"/>
          <a:stretch/>
        </p:blipFill>
        <p:spPr>
          <a:xfrm>
            <a:off x="0" y="0"/>
            <a:ext cx="4427640" cy="322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触着墙的时候，六七根细丝的头上就变成小圆片，巴住墙。细丝原先是直的，现在弯曲了，把爬山虎的嫩茎拉一把，使它紧贴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爬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Picture 6" descr="1047c1bbf56b8bf6ff64f45d41ae62e4"/>
          <p:cNvPicPr/>
          <p:nvPr/>
        </p:nvPicPr>
        <p:blipFill>
          <a:blip r:embed="rId1"/>
          <a:stretch/>
        </p:blipFill>
        <p:spPr>
          <a:xfrm>
            <a:off x="5364000" y="4508640"/>
            <a:ext cx="3156120" cy="216036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7" descr="3414854417455389061"/>
          <p:cNvPicPr/>
          <p:nvPr/>
        </p:nvPicPr>
        <p:blipFill>
          <a:blip r:embed="rId2"/>
          <a:stretch/>
        </p:blipFill>
        <p:spPr>
          <a:xfrm>
            <a:off x="32400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直的，现在弯曲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Picture 6" descr="1047c1bbf56b8bf6ff64f45d41ae62e4"/>
          <p:cNvPicPr/>
          <p:nvPr/>
        </p:nvPicPr>
        <p:blipFill>
          <a:blip r:embed="rId1"/>
          <a:stretch/>
        </p:blipFill>
        <p:spPr>
          <a:xfrm>
            <a:off x="5364000" y="4508640"/>
            <a:ext cx="3156120" cy="216036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7" descr="3414854417455389061"/>
          <p:cNvPicPr/>
          <p:nvPr/>
        </p:nvPicPr>
        <p:blipFill>
          <a:blip r:embed="rId2"/>
          <a:stretch/>
        </p:blipFill>
        <p:spPr>
          <a:xfrm>
            <a:off x="75564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68360" y="148392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现在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弯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Picture 5" descr="1047c1bbf56b8bf6ff64f45d41ae62e4"/>
          <p:cNvPicPr/>
          <p:nvPr/>
        </p:nvPicPr>
        <p:blipFill>
          <a:blip r:embed="rId1"/>
          <a:stretch/>
        </p:blipFill>
        <p:spPr>
          <a:xfrm>
            <a:off x="5580000" y="4468680"/>
            <a:ext cx="3156120" cy="2160720"/>
          </a:xfrm>
          <a:prstGeom prst="rect">
            <a:avLst/>
          </a:prstGeom>
          <a:ln w="0">
            <a:noFill/>
          </a:ln>
        </p:spPr>
      </p:pic>
      <p:pic>
        <p:nvPicPr>
          <p:cNvPr id="557" name="Picture 6" descr="3414854417455389061"/>
          <p:cNvPicPr/>
          <p:nvPr/>
        </p:nvPicPr>
        <p:blipFill>
          <a:blip r:embed="rId2"/>
          <a:stretch/>
        </p:blipFill>
        <p:spPr>
          <a:xfrm>
            <a:off x="971640" y="4581360"/>
            <a:ext cx="4103640" cy="208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0" dur="2000" fill="hold"/>
                                        <p:tgtEl>
                                          <p:spTgt spid="55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4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8" dur="2000" fill="hold"/>
                                        <p:tgtEl>
                                          <p:spTgt spid="5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第四自然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468360" y="119664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触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着墙的时候，六七根细丝的头上就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变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成小圆片，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住墙。细丝原先是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直的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现在</a:t>
            </a:r>
            <a:r>
              <a:rPr b="0" lang="zh-CN" sz="3200" spc="-1" strike="noStrike">
                <a:solidFill>
                  <a:srgbClr val="9933ff"/>
                </a:solidFill>
                <a:latin typeface="Arial"/>
              </a:rPr>
              <a:t>弯曲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，把爬山虎的嫩茎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把，使它紧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贴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在墙上。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爬山虎就是这样一脚一脚地往上</a:t>
            </a:r>
            <a:r>
              <a:rPr b="0" lang="zh-CN" sz="32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200" spc="-1" strike="noStrike">
                <a:solidFill>
                  <a:srgbClr val="0066ff"/>
                </a:solidFill>
                <a:latin typeface="Arial"/>
              </a:rPr>
              <a:t>。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如果你仔细看那些细小的脚，你会想起图画上蛟龙的爪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1047c1bbf56b8bf6ff64f45d41ae62e4"/>
          <p:cNvPicPr/>
          <p:nvPr/>
        </p:nvPicPr>
        <p:blipFill>
          <a:blip r:embed="rId1"/>
          <a:stretch/>
        </p:blipFill>
        <p:spPr>
          <a:xfrm>
            <a:off x="5580000" y="4468680"/>
            <a:ext cx="3156120" cy="216072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5"/>
          <p:cNvSpPr/>
          <p:nvPr/>
        </p:nvSpPr>
        <p:spPr>
          <a:xfrm>
            <a:off x="755640" y="4581360"/>
            <a:ext cx="468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画线的句子，把（         ）比作（           ）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写出了爬山虎的脚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形状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，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同时也表达出了作者对爬山虎的脚的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喜爱</a:t>
            </a:r>
            <a:r>
              <a:rPr b="0" i="1" lang="zh-CN" sz="24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。</a:t>
            </a:r>
            <a:endParaRPr b="0" i="1" lang="en-US" sz="2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最后一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 txBox="1"/>
          <p:nvPr/>
        </p:nvSpPr>
        <p:spPr>
          <a:xfrm>
            <a:off x="4067280" y="1599840"/>
            <a:ext cx="4619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的脚（    ）没触着墙，不几天（    ）萎了，后来连（    ）也没有了。触着墙的，细丝和小圆片（     ）变成灰色。不要（     ）那些灰色的脚，那些脚巴在墙上相当（    ），（    ）你的手指不费一点儿劲，（      ）拉下爬山虎的一根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4" name="Picture 5" descr="111348036252803"/>
          <p:cNvPicPr/>
          <p:nvPr/>
        </p:nvPicPr>
        <p:blipFill>
          <a:blip r:embed="rId1"/>
          <a:stretch/>
        </p:blipFill>
        <p:spPr>
          <a:xfrm>
            <a:off x="324000" y="1628640"/>
            <a:ext cx="3457440" cy="4429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最后一段主要讲什么？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3276720" y="1341000"/>
            <a:ext cx="5410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的脚（要是 ）没触着墙，不几天（就  ）萎了，后来连（痕迹）也没有了。触着墙的，细丝和小圆片（逐渐）变成灰色。不要（   瞧不起）那些灰色的脚，那些脚巴在墙上相当（牢固），（要是）你的手指不费一点儿劲，（休想 ）拉下爬山虎的一根茎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WordArt 4" descr=""/>
          <p:cNvPicPr/>
          <p:nvPr/>
        </p:nvPicPr>
        <p:blipFill>
          <a:blip r:embed="rId1"/>
          <a:stretch/>
        </p:blipFill>
        <p:spPr>
          <a:xfrm>
            <a:off x="385920" y="5580000"/>
            <a:ext cx="5373360" cy="9590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2008410103741771"/>
          <p:cNvPicPr/>
          <p:nvPr/>
        </p:nvPicPr>
        <p:blipFill>
          <a:blip r:embed="rId2"/>
          <a:stretch/>
        </p:blipFill>
        <p:spPr>
          <a:xfrm>
            <a:off x="250920" y="1341360"/>
            <a:ext cx="2795400" cy="35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0" y="1483920"/>
            <a:ext cx="4114800" cy="30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叶圣陶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89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）原名叶绍钧，汉族人。字秉臣。江苏苏州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著名作家、</a:t>
            </a:r>
            <a:r>
              <a:rPr b="0" lang="zh-CN" sz="3200" spc="-1" strike="noStrike" u="sng">
                <a:solidFill>
                  <a:srgbClr val="6767ff"/>
                </a:solidFill>
                <a:uFillTx/>
                <a:latin typeface="Arial"/>
                <a:hlinkClick r:id="rId1"/>
              </a:rPr>
              <a:t>教育家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编辑家、文学出版家和社会活动家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Picture 7" descr="img200809061619060"/>
          <p:cNvPicPr/>
          <p:nvPr/>
        </p:nvPicPr>
        <p:blipFill>
          <a:blip r:embed="rId2"/>
          <a:stretch/>
        </p:blipFill>
        <p:spPr>
          <a:xfrm>
            <a:off x="395280" y="1628640"/>
            <a:ext cx="4032360" cy="446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071720" y="333000"/>
            <a:ext cx="7697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想一想，作者为什么能把爬山虎的脚写得这样生动具体？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 txBox="1"/>
          <p:nvPr/>
        </p:nvSpPr>
        <p:spPr>
          <a:xfrm>
            <a:off x="3276720" y="2204640"/>
            <a:ext cx="5688000" cy="25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首先进行了长时间的连续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再（对爬山虎的叶子和脚）进行了细致的观察。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Picture 5" descr="2008410103741771"/>
          <p:cNvPicPr/>
          <p:nvPr/>
        </p:nvPicPr>
        <p:blipFill>
          <a:blip r:embed="rId1"/>
          <a:stretch/>
        </p:blipFill>
        <p:spPr>
          <a:xfrm>
            <a:off x="250920" y="1417680"/>
            <a:ext cx="2795400" cy="3564000"/>
          </a:xfrm>
          <a:prstGeom prst="rect">
            <a:avLst/>
          </a:prstGeom>
          <a:ln w="0">
            <a:noFill/>
          </a:ln>
        </p:spPr>
      </p:pic>
      <p:sp>
        <p:nvSpPr>
          <p:cNvPr id="572" name="WordArt 6"/>
          <p:cNvSpPr txBox="1"/>
          <p:nvPr/>
        </p:nvSpPr>
        <p:spPr>
          <a:xfrm>
            <a:off x="1187280" y="4941720"/>
            <a:ext cx="73152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uFillTx/>
                <a:latin typeface="宋体"/>
              </a:rPr>
              <a:t>学习课文后，你有什么体会或收获？</a:t>
            </a:r>
            <a:endParaRPr b="1" i="1" lang="en-US" sz="2400" spc="1" strike="noStrike" u="sng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uFillTx/>
              <a:latin typeface="宋体"/>
              <a:ea typeface="宋体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539280" y="1413000"/>
            <a:ext cx="814716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文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叶圣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别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原名 叶绍钧 字秉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籍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中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民族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汉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地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江苏苏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出生日期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89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逝世日期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8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职业：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作家、教育家、社会活动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代表作品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隔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线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倪焕之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脚步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西川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稻草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3" name="Picture 5" descr="32bb9c8b071d53fcfd1f101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84720" y="1557360"/>
            <a:ext cx="2087640" cy="28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听课文录音，思考与回答：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456840" y="1773360"/>
            <a:ext cx="6923160" cy="43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从哪些词句可以看出来，这是作者经过了长时间的连续观察之后才写成的文章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、作者细致观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了爬山虎的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Picture 5" descr="爬墙虎2"/>
          <p:cNvPicPr/>
          <p:nvPr/>
        </p:nvPicPr>
        <p:blipFill>
          <a:blip r:embed="rId1"/>
          <a:srcRect l="0" t="44809" r="0" b="0"/>
          <a:stretch/>
        </p:blipFill>
        <p:spPr>
          <a:xfrm>
            <a:off x="4284720" y="4581360"/>
            <a:ext cx="4464000" cy="1951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学校操场北边墙上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满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是爬墙虎。我家也有爬山虎，从小院的西墙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爬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上去，在房顶上</a:t>
            </a:r>
            <a:r>
              <a:rPr b="0" lang="zh-CN" sz="3000" spc="-1" strike="noStrike">
                <a:solidFill>
                  <a:srgbClr val="ff3399"/>
                </a:solidFill>
                <a:latin typeface="Arial"/>
              </a:rPr>
              <a:t>占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</a:rPr>
              <a:t>了一大片地方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684000" y="2494080"/>
            <a:ext cx="8002440" cy="36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Picture 5" descr="20091020143352_2062140593"/>
          <p:cNvPicPr/>
          <p:nvPr/>
        </p:nvPicPr>
        <p:blipFill>
          <a:blip r:embed="rId1"/>
          <a:stretch/>
        </p:blipFill>
        <p:spPr>
          <a:xfrm>
            <a:off x="684360" y="1916280"/>
            <a:ext cx="8064360" cy="4670280"/>
          </a:xfrm>
          <a:prstGeom prst="rect">
            <a:avLst/>
          </a:prstGeom>
          <a:ln w="0">
            <a:noFill/>
          </a:ln>
        </p:spPr>
      </p:pic>
      <p:sp>
        <p:nvSpPr>
          <p:cNvPr id="520" name="WordArt 6"/>
          <p:cNvSpPr txBox="1"/>
          <p:nvPr/>
        </p:nvSpPr>
        <p:spPr>
          <a:xfrm>
            <a:off x="2268360" y="3645000"/>
            <a:ext cx="50292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1" strike="noStrike" u="sng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uFillTx/>
                <a:latin typeface="宋体"/>
              </a:rPr>
              <a:t>学校和我家都有爬山虎。</a:t>
            </a:r>
            <a:endParaRPr b="1" i="1" lang="en-US" sz="2400" spc="1" strike="noStrike" u="sng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uFillTx/>
              <a:latin typeface="宋体"/>
              <a:ea typeface="宋体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5" descr="202746"/>
          <p:cNvPicPr/>
          <p:nvPr/>
        </p:nvPicPr>
        <p:blipFill>
          <a:blip r:embed="rId1"/>
          <a:stretch/>
        </p:blipFill>
        <p:spPr>
          <a:xfrm>
            <a:off x="0" y="0"/>
            <a:ext cx="4762440" cy="681984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410920" y="189000"/>
            <a:ext cx="5977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 txBox="1"/>
          <p:nvPr/>
        </p:nvSpPr>
        <p:spPr>
          <a:xfrm>
            <a:off x="4356000" y="1341000"/>
            <a:ext cx="4788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183280" y="274320"/>
            <a:ext cx="396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6" name="Picture 4" descr="202746"/>
          <p:cNvPicPr/>
          <p:nvPr/>
        </p:nvPicPr>
        <p:blipFill>
          <a:blip r:embed="rId1"/>
          <a:stretch/>
        </p:blipFill>
        <p:spPr>
          <a:xfrm>
            <a:off x="0" y="38160"/>
            <a:ext cx="4762440" cy="681984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6" descr="343190preview2"/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715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 txBox="1"/>
          <p:nvPr/>
        </p:nvSpPr>
        <p:spPr>
          <a:xfrm>
            <a:off x="539640" y="1844640"/>
            <a:ext cx="806472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爬山虎刚长出来的叶子是（</a:t>
            </a:r>
            <a:r>
              <a:rPr b="0" lang="zh-CN" sz="2800" spc="-1" strike="noStrike">
                <a:solidFill>
                  <a:srgbClr val="ff3399"/>
                </a:solidFill>
                <a:latin typeface="Arial"/>
              </a:rPr>
              <a:t>嫩红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）的，不几天叶子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长大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），就变成（  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嫩绿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）的。爬山虎的嫩叶，不大引人注意，引人注意的是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长大了的叶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那些叶子（ </a:t>
            </a:r>
            <a:r>
              <a:rPr b="0" lang="zh-CN" sz="2800" spc="-1" strike="noStrike">
                <a:solidFill>
                  <a:srgbClr val="9933ff"/>
                </a:solidFill>
                <a:latin typeface="Arial"/>
              </a:rPr>
              <a:t>绿得那么新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，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看着非常舒服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叶尖一顺儿（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朝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），在墙上铺得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那么均匀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），没有（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重叠起来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）的，也不留（  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一点儿空隙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一阵风拂过，一墙的叶子就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漾起波纹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，（ </a:t>
            </a:r>
            <a:r>
              <a:rPr b="0" lang="zh-CN" sz="2800" spc="-1" strike="noStrike">
                <a:solidFill>
                  <a:srgbClr val="0066ff"/>
                </a:solidFill>
                <a:latin typeface="Arial"/>
              </a:rPr>
              <a:t>好看得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182920" y="274320"/>
            <a:ext cx="3801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000000"/>
                </a:solidFill>
                <a:latin typeface="Arial"/>
              </a:rPr>
              <a:t>爬山虎的叶子好看得很 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1844280"/>
            <a:ext cx="806436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爬山虎刚长出来的叶子是（         ）的，不几天叶子（     ），就变成（    ）的。爬山虎的嫩叶，不大引人注意，引人注意的是（           ）。那些叶子（     ），（         ）。叶尖一顺儿（     ），在墙上铺得（       ），没有（        ）的，也不留（             ）。一阵风拂过，一墙的叶子就（         ），（     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4" descr="202746"/>
          <p:cNvPicPr/>
          <p:nvPr/>
        </p:nvPicPr>
        <p:blipFill>
          <a:blip r:embed="rId1"/>
          <a:stretch/>
        </p:blipFill>
        <p:spPr>
          <a:xfrm>
            <a:off x="0" y="38160"/>
            <a:ext cx="4762440" cy="681984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5" descr="343190preview2"/>
          <p:cNvPicPr/>
          <p:nvPr/>
        </p:nvPicPr>
        <p:blipFill>
          <a:blip r:embed="rId2"/>
          <a:stretch/>
        </p:blipFill>
        <p:spPr>
          <a:xfrm>
            <a:off x="4788000" y="1773360"/>
            <a:ext cx="3809880" cy="3960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06:20:40Z</dcterms:created>
  <dc:creator/>
  <dc:description/>
  <dc:language>en-US</dc:language>
  <cp:lastModifiedBy>万润仪器贸易公司</cp:lastModifiedBy>
  <dcterms:modified xsi:type="dcterms:W3CDTF">2020-08-24T03:32:16Z</dcterms:modified>
  <cp:revision>7</cp:revision>
  <dc:subject/>
  <dc:title>爬山虎的脚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